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B9D-D1A8-4069-A74B-51EC8D51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31F-EF98-4DF5-9F83-40A24F95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0AB-695E-4FBE-ACCE-D88F1B74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1B2-D159-4539-B0A0-CE700ADF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96E3-C7F0-4831-AA24-0D741534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0949-27AE-41A1-9785-FE3522B6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14FA-6F01-445E-A7B1-92B0281D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D06B-0993-4803-9BB0-29965631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B612-DB86-454E-96BF-55EF0614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7871-315F-4EDF-B080-AD262893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B13F-8DAE-4B46-8741-001C370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27F-7B5F-4975-A800-6432FA24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ADBE-6F6F-44C7-9515-E3473832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B335-8EC3-41C2-9C93-4853472E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E1F9-F525-4D83-8802-E8A8BB6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B4A9-352A-43D6-BBF9-93B18F9E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D59D-B43C-4CC9-B1B7-0E2A05C7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AEBD-50CC-45AF-9A33-4A16995F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2A5E-84A9-4BE8-A3CD-D3B17506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0013-725A-4065-9110-918CF374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915ED-0E29-48BC-9B42-0F1DD8B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1082-E09C-4F54-92B7-EAF8310B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3DC-CB6F-4BFC-B480-80C93D7A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84F1-AD37-4B56-9F26-0AAEE921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1F49-F6C8-4EE8-827F-50C449B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00BE3-49FF-4225-B504-FCCA106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A5CF-5296-41A8-9AC8-6DC2890B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A259-96CE-428D-B25D-E1D98FB1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CDCA-8492-4522-8D3D-64F8C843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A065-646D-46F7-A05D-B388A855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C27D-DFAA-4747-8EE1-918F0B9B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1107-9186-4FD5-AD4F-3D332AEF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0FF0-4E2D-4161-BE44-0758C586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00F-DC5E-4ADC-BB90-F85B563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0AB1-C0A4-4A98-BC50-9C44757F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0FC9-498A-497F-B372-002CD414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0902-6CAE-4EE6-B169-142C00F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AE7F-46D4-4316-A974-E0A0F10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FCC36-BD53-4BB1-A4AC-CFA11CD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9783-B4EC-4B2B-812D-A6F76D6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14F34-FA88-4DA1-BD63-3E1F3269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9C49-6993-4CC9-9F73-B85A0BDF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7912-F50D-4A05-AB61-0CC1B0BF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D635F-A706-4C9A-8EEC-1A2196DA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CDF-8B61-4495-B84D-E18B6BAE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CBDD-4BA9-414C-BAC8-807B9AB1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27B9C-AF31-42F8-9C05-9A1E81D3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0E02D-9EBE-40F4-BED6-51AB2DE4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C6C29-3DB0-46E9-8DE9-4BE0C5F6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ADE34-B9D4-46A4-83D3-8AE60A94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D13D1-3D0E-4BFE-AC16-38B902DB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3238-5DB1-45B7-A013-A28123F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B81D-700A-4401-8AAD-E53F949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5176-4D2C-4E7D-BF08-4AA8709E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0D2C-CA66-4FC5-9B3A-01F1E31C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DED-62EC-468E-B82F-982A170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7A08-E4AE-42AD-9FCB-C9853873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508C9-F5DE-4CDF-B7D4-EEC90926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5B75E-CE90-467C-ABD6-B5331AF3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6715F-73F3-499B-98BD-2CB2FA40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10DBA-5AA3-4D83-812D-84DCC083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7B396-4F1F-4834-9B12-4A43983E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57CB0-5D84-461B-9087-CE1D7D1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B144-628B-43DB-ADE7-317E4BA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19B0-DFB0-45C3-A807-623777D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F596F-8356-4BDC-8D8E-21D4DCF9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AA1-0444-42F3-9460-443B7AAB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D93A4-FCE7-4FC4-9CCA-16F050C3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9FB8-4B5F-4922-BACC-30E3781D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52C95-F5F1-4385-9A9D-B284E7F6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93762-DE40-4AB9-89AD-AB3FE39C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71F0-8F72-44BC-909B-6BFFDB4B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B8F3-C5D3-49F6-B4B8-FC41E114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3E7BB-365E-40BC-B06D-CC7C9502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83AD0-F643-45D4-9F8D-C4D117A9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43DE-2264-4C2B-B36A-FFDB288B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C1F73-8F61-4253-85EC-468C3C1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026-E5AA-49D1-840F-737C85DE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ADD8D-E764-4908-8D7F-3FA4C20C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C7FFD-D5CD-4D09-A7B1-FD09442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65DC4-7E86-482A-9D80-64EEA49F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F7DF2-D452-4068-8DD2-26AB6CCC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505CE-D436-4C2A-BC52-5A72A55E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CBA-7FFE-4A43-9D81-4AF7D8E9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3327-68CF-40A5-9D5E-BF9ADA1165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5957-1EE2-4A74-9EAA-9C18B45F57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C45-BBCE-4771-8789-1060D8276A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9509-6269-4916-8DB7-CF62A4181BC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0A79-00A1-4B25-9B80-A817A37F99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37CE-576A-4BFA-A952-29EFAAA1CA2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5FE4-2DFB-46A3-858C-DDE0FB1F50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5835600" y="47149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Дулеп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Удачнен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5294160" cy="343512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1" descr=""/>
          <p:cNvPicPr/>
          <p:nvPr/>
        </p:nvPicPr>
        <p:blipFill>
          <a:blip r:embed="rId2"/>
          <a:stretch/>
        </p:blipFill>
        <p:spPr>
          <a:xfrm>
            <a:off x="189000" y="1500120"/>
            <a:ext cx="83325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1049040" y="214200"/>
            <a:ext cx="64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6a08"/>
                </a:solidFill>
                <a:latin typeface="Candar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18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-82800" y="3786120"/>
            <a:ext cx="172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20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1619280" y="90792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«Mistakes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95280" y="2205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peach, pear, chicken, apple,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ail, cat, mouse, dog,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ird, airplane, kite, helicopter,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d, sun, green, purple,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ld, warm, dry, sky, cl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340000" y="981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eck yoursel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468360" y="227664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peach, pear,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chick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apple, ban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ai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at, mouse, dog,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i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irplane, kite, helicopter,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red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green, purple,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cold, warm, dry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k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lo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900000" y="1125360"/>
            <a:ext cx="72723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йте как можно больше новых слов, используя буквы данного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acknowledgement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590840"/>
            <a:ext cx="7718400" cy="1566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6" descr=""/>
          <p:cNvPicPr/>
          <p:nvPr/>
        </p:nvPicPr>
        <p:blipFill>
          <a:blip r:embed="rId3"/>
          <a:stretch/>
        </p:blipFill>
        <p:spPr>
          <a:xfrm>
            <a:off x="3279600" y="2876400"/>
            <a:ext cx="22672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RePack by Diakov</cp:lastModifiedBy>
  <dcterms:modified xsi:type="dcterms:W3CDTF">2016-02-23T12:06:10Z</dcterms:modified>
  <cp:revision>43</cp:revision>
  <dc:subject/>
  <dc:title>Слайд 1</dc:title>
</cp:coreProperties>
</file>